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074F-E440-49E5-B597-E7B664F9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BA4C-C64D-41C2-AFE9-74FAE73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CE5E-C54B-4926-9E21-CA83A979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2413-06EC-40FA-A97B-9FC71369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8A4-B142-4B6E-868C-C2267FDE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C1E-71E0-4D9D-8EE9-B8DAD3D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404-A4A6-488C-AE1D-9D54090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C17-0BF7-4804-AA7B-BD790B5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456-502A-49BC-A831-14624D0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33EC-263C-4861-BE2C-148A632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F534-BC21-4F2F-BBD4-7F2E80A0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6467-22EA-4530-B99A-9F2CE10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D25-F0BD-4178-9D82-FCDFC0A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DB95-D4C7-40CE-B57C-4D2E788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FAAF-66A5-4B3C-B1A4-1705215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889-5D2D-403E-A35F-C56A62D5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B363-C087-474A-8F18-B2F2F223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2443-F7B4-4265-BD1E-060DE7F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F34C-B2DC-475A-BEC4-3BCE3E86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D044-9733-489E-9BA7-AD377DBE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1FAC-15D4-475F-9D37-236BC13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A2AD-E448-4F3F-B490-64BC4BA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BB7F-9DF2-4CD2-A990-4F8824F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8B91-BF0E-4F98-978F-0FA4AA5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1FA2-00F5-4000-A841-EBD975AD311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F601-2444-42A8-9B78-6F2857EF43B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8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9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есели да са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благодарност пъл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Отец във небес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рича чада родн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еселие, с весел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всичките ни д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о с хубости е туй живеене, радостни да бъдем 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780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Господ сам ни води неж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неравен път на бо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борбата минава лесн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отвред закриля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еселие, с весел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всичките ни д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о с хубости е туй живеене, радостни да бъдем 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048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Праведните нека ход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светен от Бога пъ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те на Христа служ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радват в райски къ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еселие, с весел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всичките ни д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о с хубости е туй живеене, радостни да бъдем 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2-27T16:02:01Z</dcterms:modified>
  <cp:revision>216</cp:revision>
  <dc:subject/>
  <dc:title>Slide 1</dc:title>
</cp:coreProperties>
</file>